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8183-945A-4721-8611-A3D833B75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032A-7270-45F1-9C50-FC06199F2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0EB1C-D3A1-402A-8D53-ACE6930FA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754E7-E94E-4594-94EE-49497696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3FECA-3635-469D-9466-E5709C3BE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F07EC-3998-4376-9F0D-E6A8CAD50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B564A-AEEB-4684-977E-EA6622EE3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581F1-8DFF-4279-9B7B-3323F61E7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07740-FC74-4D7E-B758-D6A281C4C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0710-290E-4DAF-88AE-2844800D2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96D80-3B79-4848-AD66-B49DFC73D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E9DCF-7B46-421E-B2F4-3DBEEA70A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E9D0E-07C6-4472-BF30-47D7E71D1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CC0FE-A189-4131-98B6-D81863F60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5DB65-9999-46B3-BB2F-644887779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642C6-1D4B-451C-85BC-310E3ABE5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96A78-0398-4799-BD15-B7F8A71AA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04B62-0385-4F13-9A34-3BB37C524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3E154-9B62-449C-BF85-EB7ECDFF3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147A5EB-D1AB-4197-8B02-3D7FFC4FF0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DD9EB2-6707-4C33-9C50-06846C38C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C8D242-BE0B-4E41-B19C-09D6C93651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BBB29F-A3A4-4D6D-A402-A9C7B0738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E826EE-3B4C-437C-859F-16E9A8F1E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68242-82D9-454F-9C43-A4400FBAA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5B0B37-526D-4A8A-A078-28A146057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BFD3B2-C308-4EA7-A772-9D186BC8D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AC6B6D-1BF9-4394-8107-D4365DAB0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88C9AF-4366-413C-90F0-253C00EE6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8AAE4A-1A30-4C5B-BDF1-023E55BA9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88FA53-F636-407A-AAB0-C755E4BC88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3BE3F4-094E-43F5-81B3-81FEAAD599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FF3782-0A48-4B0B-A93F-A4DB999B1B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76F4F-CD8E-4F7E-8CDB-8C0A6D111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B4DFE-C6EB-4308-8823-5EB7B0EC6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EBD5-141F-4B2B-B2BA-8A1901CDC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E91613-E226-40D2-AFE3-CF492C59F2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EF655-F764-4AC5-A211-14AA9AB78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207C5-9825-4340-867C-361918549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3063D-467E-48C5-8AF2-38992245D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1D138-024E-4408-9C68-EFFCE3185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4CC7D-1BD1-4B24-A5A1-EAB53B6E1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D85D4-81FE-488F-938A-BD4CE2AB4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DB1E2F-56ED-408A-9B1B-501ED307FC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B8943-428B-49DA-98FE-1604075726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54CA-E0C9-4718-985E-27581E155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4376C-A5B1-4BF2-B77E-1F2E60C7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6589-57F0-4EB0-BBBD-B04FE870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E091-72DC-43DA-9216-3955DDD3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F440-3386-430E-88CF-21ADA7A80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F3A4-F81E-49EE-8484-B5C70C8C345E}"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53EB-0378-4CE1-B805-FA9A9473F0B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A1E6-C776-4C50-BCDD-EE31A702CBF8}"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E6AA-AC6C-4163-B221-8DEEFB549B31}"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767F-96B6-4679-ADC9-FF4AEC74C219}"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7C8E-5188-4DC6-B815-D83EC5C7B05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7BF1-5950-4A30-B8A0-D5039CB738C3}"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F84A-6E00-453E-A8C7-EA82305AA36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5</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cenario: The Sanderson ranch sells their young calves to a backgrounder shortly after weaning them. The calves are sold by the pound, so a high weaning weight is desirable. Recently, one of their top bulls was injured and they are looking for a replacemen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3" name=""/>
          <p:cNvSpPr txBox="1"/>
          <p:nvPr/>
        </p:nvSpPr>
        <p:spPr>
          <a:xfrm>
            <a:off x="1042560" y="2323800"/>
            <a:ext cx="7263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the data provided in the table below to determine the following:</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ich bull produced calves with the highest average weaning weight? (me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alf of the calves produced by each bull have a weaning weight of _____ or more. (medi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ist the range of weaning weights for each bull.</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pic>
        <p:nvPicPr>
          <p:cNvPr id="365" name="Content Placeholder 1" descr=""/>
          <p:cNvPicPr/>
          <p:nvPr/>
        </p:nvPicPr>
        <p:blipFill>
          <a:blip r:embed="rId1"/>
          <a:stretch/>
        </p:blipFill>
        <p:spPr>
          <a:xfrm>
            <a:off x="530280" y="2395440"/>
            <a:ext cx="6510240" cy="233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pic>
        <p:nvPicPr>
          <p:cNvPr id="367" name="Content Placeholder 1" descr=""/>
          <p:cNvPicPr/>
          <p:nvPr/>
        </p:nvPicPr>
        <p:blipFill>
          <a:blip r:embed="rId1"/>
          <a:stretch/>
        </p:blipFill>
        <p:spPr>
          <a:xfrm>
            <a:off x="530280" y="2395440"/>
            <a:ext cx="8101080" cy="2335320"/>
          </a:xfrm>
          <a:prstGeom prst="rect">
            <a:avLst/>
          </a:prstGeom>
          <a:ln w="0">
            <a:noFill/>
          </a:ln>
        </p:spPr>
      </p:pic>
      <p:sp>
        <p:nvSpPr>
          <p:cNvPr id="368" name="Content Placeholder 3"/>
          <p:cNvSpPr/>
          <p:nvPr/>
        </p:nvSpPr>
        <p:spPr>
          <a:xfrm>
            <a:off x="1042920" y="5029200"/>
            <a:ext cx="7186680" cy="8031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Rex would be the best bull for the Sanderson Ranch because it has the higher average and a low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0" name=""/>
          <p:cNvSpPr txBox="1"/>
          <p:nvPr/>
        </p:nvSpPr>
        <p:spPr>
          <a:xfrm>
            <a:off x="1042560" y="2323800"/>
            <a:ext cx="7186680" cy="3508200"/>
          </a:xfrm>
          <a:prstGeom prst="rect">
            <a:avLst/>
          </a:prstGeom>
          <a:noFill/>
          <a:ln w="0">
            <a:noFill/>
          </a:ln>
        </p:spPr>
        <p:txBody>
          <a:bodyPr anchor="t">
            <a:normAutofit fontScale="92000"/>
          </a:bodyPr>
          <a:p>
            <a:pPr marL="315360" indent="-2512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cenario: Flavor J Ranch purchases backgrounded calves to finish out and sell to packers. The feedlot manager uses yield grade data to determine how efficient they were in maximizing their return in investment on feed and the cattle themselves. He also uses the data to determine which sires they want to look for in the calves they purchase. The following yield grade data was available for calves from two bulls that sired calves in this last set of finished cattl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2" name=""/>
          <p:cNvSpPr txBox="1"/>
          <p:nvPr/>
        </p:nvSpPr>
        <p:spPr>
          <a:xfrm>
            <a:off x="1042560" y="2323800"/>
            <a:ext cx="7263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the data provided in the table below to determine the following:</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ich bull produced calves with the lowest average yield grade? (me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alf of the calves produced by each bull have a yield grade of _____ or less. (medi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ist the range of yield grades for each bull.</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pic>
        <p:nvPicPr>
          <p:cNvPr id="374" name="Content Placeholder 1" descr=""/>
          <p:cNvPicPr/>
          <p:nvPr/>
        </p:nvPicPr>
        <p:blipFill>
          <a:blip r:embed="rId1"/>
          <a:stretch/>
        </p:blipFill>
        <p:spPr>
          <a:xfrm>
            <a:off x="530280" y="2395440"/>
            <a:ext cx="6510240" cy="233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pic>
        <p:nvPicPr>
          <p:cNvPr id="376" name="Content Placeholder 1" descr=""/>
          <p:cNvPicPr/>
          <p:nvPr/>
        </p:nvPicPr>
        <p:blipFill>
          <a:blip r:embed="rId1"/>
          <a:stretch/>
        </p:blipFill>
        <p:spPr>
          <a:xfrm>
            <a:off x="530280" y="2395440"/>
            <a:ext cx="8101080" cy="2444760"/>
          </a:xfrm>
          <a:prstGeom prst="rect">
            <a:avLst/>
          </a:prstGeom>
          <a:ln w="0">
            <a:noFill/>
          </a:ln>
        </p:spPr>
      </p:pic>
      <p:sp>
        <p:nvSpPr>
          <p:cNvPr id="377" name="Content Placeholder 3"/>
          <p:cNvSpPr/>
          <p:nvPr/>
        </p:nvSpPr>
        <p:spPr>
          <a:xfrm>
            <a:off x="1042920" y="5029200"/>
            <a:ext cx="7186680" cy="8031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oris would be the best choice as he has a higher average. While his range is greater than Ajax, it’s not by enough to make a dif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Fundamental Animal Science students use data set comparisons to evaluate sire performance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damental Animal Science, AN 5.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cognize optimum performance for a given animal specie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dentify reasons why some animals perform better than others. Evaluate sire performance records (EPD’s, ratios, pedigree and carcass data)</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S.1.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compare multiple one-variable data sets, using range, interquartile range, mean, mode and media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rquartile range: the distance between the 25</a:t>
            </a:r>
            <a:r>
              <a:rPr b="0" lang="en-US" sz="2400" spc="-1" strike="noStrike" baseline="30000">
                <a:solidFill>
                  <a:srgbClr val="3e3d2d"/>
                </a:solidFill>
                <a:latin typeface="Century Gothic"/>
              </a:rPr>
              <a:t>th</a:t>
            </a:r>
            <a:r>
              <a:rPr b="0" lang="en-US" sz="2400" spc="-1" strike="noStrike">
                <a:solidFill>
                  <a:srgbClr val="3e3d2d"/>
                </a:solidFill>
                <a:latin typeface="Century Gothic"/>
              </a:rPr>
              <a:t> percentile and the 75</a:t>
            </a:r>
            <a:r>
              <a:rPr b="0" lang="en-US" sz="2400" spc="-1" strike="noStrike" baseline="30000">
                <a:solidFill>
                  <a:srgbClr val="3e3d2d"/>
                </a:solidFill>
                <a:latin typeface="Century Gothic"/>
              </a:rPr>
              <a:t>th</a:t>
            </a:r>
            <a:r>
              <a:rPr b="0" lang="en-US" sz="2400" spc="-1" strike="noStrike">
                <a:solidFill>
                  <a:srgbClr val="3e3d2d"/>
                </a:solidFill>
                <a:latin typeface="Century Gothic"/>
              </a:rPr>
              <a:t> percentil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nge: the difference between the largest and smallest valu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an: the average val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dian: the middle val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ode: the value repeated more than any other (can be more than on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2" name=""/>
          <p:cNvSpPr txBox="1"/>
          <p:nvPr/>
        </p:nvSpPr>
        <p:spPr>
          <a:xfrm>
            <a:off x="1042920" y="2323800"/>
            <a:ext cx="703440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cenario: The Jacobson Ranch runs a cow/calf operation and a feedlot. They finish the calves on the ranch and sell them for market. Once processed, Mr. Jacobson reviews the carcass data to evaluate the bulls they used as sires the previous year. This year’s data shows a consistent trend of smaller than average rib eye area (REA). Mr. Jacobson has decided to purchase a new bull in hopes correcting the issu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fontScale="97000"/>
          </a:bodyPr>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ich bull produced calves with the highest average REA? (mean)</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lf of the calves produced by each bull have a REA of _____ or more. (median)</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ist the range of REA’s for each bull. </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ased on the information above, choose the best bull for Mr. Jacobson. Why? Which pieces of information were most useful in making your decis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pic>
        <p:nvPicPr>
          <p:cNvPr id="356" name="Content Placeholder 1" descr=""/>
          <p:cNvPicPr/>
          <p:nvPr/>
        </p:nvPicPr>
        <p:blipFill>
          <a:blip r:embed="rId1"/>
          <a:stretch/>
        </p:blipFill>
        <p:spPr>
          <a:xfrm>
            <a:off x="609480" y="2395440"/>
            <a:ext cx="6504120" cy="233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pic>
        <p:nvPicPr>
          <p:cNvPr id="358" name="Content Placeholder 1" descr=""/>
          <p:cNvPicPr/>
          <p:nvPr/>
        </p:nvPicPr>
        <p:blipFill>
          <a:blip r:embed="rId1"/>
          <a:stretch/>
        </p:blipFill>
        <p:spPr>
          <a:xfrm>
            <a:off x="609480" y="2395440"/>
            <a:ext cx="8004240" cy="2335320"/>
          </a:xfrm>
          <a:prstGeom prst="rect">
            <a:avLst/>
          </a:prstGeom>
          <a:ln w="0">
            <a:noFill/>
          </a:ln>
        </p:spPr>
      </p:pic>
      <p:sp>
        <p:nvSpPr>
          <p:cNvPr id="359" name="Content Placeholder 3"/>
          <p:cNvSpPr/>
          <p:nvPr/>
        </p:nvSpPr>
        <p:spPr>
          <a:xfrm>
            <a:off x="1042920" y="5029200"/>
            <a:ext cx="7186680" cy="8031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est Bull: Precision because the average is higher. Range is also important because a large range could skew an average. In this case, Precision also had the smaller range as w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2T20:39:29Z</dcterms:modified>
  <cp:revision>114</cp:revision>
  <dc:subject/>
  <dc:title>South Dakota Ag Education</dc:title>
</cp:coreProperties>
</file>